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24D2-7275-4819-909A-1EED14DD2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is not currently an OBI term.  Is it a synonym for investig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design is not currently an OBI term.  Is it a synonym of investigation desig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4DCB-79F0-4786-9C6C-444E737C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A594-765C-4DF2-95F7-3402CF10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6DF-E226-4F1B-A494-2DA545F2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35A-943C-41B9-9B5A-9FD10694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1AB-3A09-495B-AAA4-14CE857D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3D0-33EF-4668-AD7D-64ED8B99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E86-1B42-4F27-8782-BF7E5053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087-BA29-4917-84A9-A6A3F915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8449-B426-4079-B5B7-2FB7D86B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35F-78A0-4F98-B1DF-A18550C1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70B-604B-452A-A2CF-60F92B0C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FB7-B9C9-4752-ABBA-E8698832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6781-74EC-4627-8309-908C17876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324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membership into BFO/OBI 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5400000">
            <a:off x="1531440" y="-291960"/>
            <a:ext cx="6122880" cy="81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81600" y="4805280"/>
            <a:ext cx="2015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Biological marker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udy populations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Trial coordinator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udy variable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Drug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ubject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53764" t="30841" r="2979" b="24000"/>
          <a:stretch/>
        </p:blipFill>
        <p:spPr>
          <a:xfrm>
            <a:off x="2428920" y="1522440"/>
            <a:ext cx="4219560" cy="3303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2762" t="26392" r="5988" b="29168"/>
          <a:stretch/>
        </p:blipFill>
        <p:spPr>
          <a:xfrm>
            <a:off x="762120" y="952560"/>
            <a:ext cx="7924680" cy="3251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95720" y="420228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5440" y="4943520"/>
            <a:ext cx="3196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Case report form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Patient file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Consent form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New drug application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Investigational new drug application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3411" t="31077" r="3514" b="24305"/>
          <a:stretch/>
        </p:blipFill>
        <p:spPr>
          <a:xfrm>
            <a:off x="469800" y="1663560"/>
            <a:ext cx="810288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2108" t="28995" r="8332" b="29168"/>
          <a:stretch/>
        </p:blipFill>
        <p:spPr>
          <a:xfrm>
            <a:off x="851040" y="1231920"/>
            <a:ext cx="7759440" cy="306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84880" y="4295880"/>
            <a:ext cx="28371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Meta-analysis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Quality assurance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Quality control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Baseline assessment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Validation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Coding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Permuted block randomization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econdary-study-protocol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Intervention-step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Blinding-method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43840" y="430200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udy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795840"/>
            <a:ext cx="1523880" cy="457200"/>
          </a:xfrm>
          <a:prstGeom prst="rect">
            <a:avLst/>
          </a:prstGeom>
          <a:noFill/>
          <a:ln w="38160">
            <a:solidFill>
              <a:srgbClr val="7a7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0600" y="1798560"/>
            <a:ext cx="290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Development plan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andard operating procedures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atistical analysis plan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2529000"/>
            <a:ext cx="658800" cy="457200"/>
          </a:xfrm>
          <a:prstGeom prst="rect">
            <a:avLst/>
          </a:prstGeom>
          <a:noFill/>
          <a:ln w="38160">
            <a:solidFill>
              <a:srgbClr val="7a7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12404" t="29429" r="3924" b="25220"/>
          <a:stretch/>
        </p:blipFill>
        <p:spPr>
          <a:xfrm>
            <a:off x="433440" y="1112760"/>
            <a:ext cx="8161200" cy="331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8080" y="4202280"/>
            <a:ext cx="2004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Negative findings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Positive findings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Primary-outcome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econdary-outcome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9:50:08Z</dcterms:created>
  <dc:creator>Pathology</dc:creator>
  <dc:description/>
  <dc:language>en-US</dc:language>
  <cp:lastModifiedBy>Pathology</cp:lastModifiedBy>
  <dcterms:modified xsi:type="dcterms:W3CDTF">2007-09-25T17:33:46Z</dcterms:modified>
  <cp:revision>44</cp:revision>
  <dc:subject/>
  <dc:title>CTO - Clinical Trials/Research in the Ontology of Biomedical Investigation</dc:title>
</cp:coreProperties>
</file>